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71D-15EB-4904-8176-846004398D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  <a:ea typeface="Arial"/>
              </a:rPr>
              <a:t>Payback Period = [Cost of energy saving asset]/[Annual cash flows]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C341-8805-472D-9A88-C09F8CD240FC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BA7-3357-45E6-8A60-FA10FB31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CD5-38BB-4292-A897-5280AD2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A6C-1655-46AD-B065-2D82EFD9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8F2-F6B3-4E06-9F72-8A3E8B34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F3B5-2945-4D0A-8EDF-3BB119FB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AD0D-E1C8-4CD6-A5D2-3A713D7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E9E8-8F98-464F-B551-906F6AD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BA6C-E55A-402E-BEF0-EC95ECFA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B0CB-0E00-474F-8868-9605F9DA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0CAC-CB42-4B27-819F-A15CEA5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9506-6160-43D8-AB54-DECEB63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1E4-10CC-4135-923B-8F3EB08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8E6A-E5B5-425D-BDD6-24D21DE1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1CD-5F0A-4B43-97B8-44260F3C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69F2-13B3-4148-A4E2-6E7F5B70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6D85-1D76-41AF-A3C2-8BB1961E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B4C0-9F12-4E9D-946F-518D9ACB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441-B4F2-4B4D-8B26-D92DC797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D1A-9716-426E-A5C4-B1982F1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2ED-8EAA-4F0D-9BF7-B8C42629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B27-8EDD-4300-AC28-3BA6C8AB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D491-C2B4-4565-B166-2CBAE74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E41-9272-407A-AD58-D1CB67F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A11-EBBA-44FC-8EA6-D7E2884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C5FA-1B78-46EF-B858-8C81E865E309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1667-75F7-40B1-A5F8-00E77270B1AB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-920880"/>
            <a:ext cx="8570880" cy="4127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ocus on the benef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Keep everyone informed  and involv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Get  energy efficient around the off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Purchasing of energy via renewable energy sources minimises your global impact and provides a strong environmentally friendly message to customers and staf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Increase Awarene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Encourage Recyc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Identify Opportuniti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Book Antiqua"/>
              </a:rPr>
              <a:t>Collect data within the organisation and analyse consumption with the need to reduce the power bil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mproved business provide job secur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reation of new job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akes it possible for businesses to be open 24 x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st effectivene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cess usage ie over us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se of energy efficient luminair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33440" y="103320"/>
            <a:ext cx="8362800" cy="143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ways have spare hardware arou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Pay for all software to get support and stay on the safe side of the 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l hardware and software should be secured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and available as and when need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Use of ICTs help improve the quality of educatio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378000" y="103320"/>
            <a:ext cx="8480160" cy="132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IT service reliability, integrity and protection—how do we remove barriers, extend controls and leverage processes to improve IT responsiveness and reduce costs and ris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Make sure all of your PCs use antivirus software and if you're using Windows, add antispyware prot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scan regularly for threa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Start doing regular off-site backups no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Arial"/>
              </a:rPr>
              <a:t>Disable file/print sharing on everything other than your file serv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-262080"/>
            <a:ext cx="8321760" cy="1322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Cloud"/>
          <p:cNvSpPr/>
          <p:nvPr/>
        </p:nvSpPr>
        <p:spPr>
          <a:xfrm>
            <a:off x="0" y="1125360"/>
            <a:ext cx="1800360" cy="1204920"/>
          </a:xfrm>
          <a:custGeom>
            <a:avLst/>
            <a:gdLst>
              <a:gd name="textAreaLeft" fmla="*/ 248040 w 1800360"/>
              <a:gd name="textAreaRight" fmla="*/ 1424160 w 1800360"/>
              <a:gd name="textAreaTop" fmla="*/ 181800 h 1204920"/>
              <a:gd name="textAreaBottom" fmla="*/ 967320 h 1204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5" descr="C:\Users\Administrator\AppData\Local\Microsoft\Windows\Temporary Internet Files\Content.IE5\1JQQ7I3X\MC900432567[1].png"/>
          <p:cNvPicPr/>
          <p:nvPr/>
        </p:nvPicPr>
        <p:blipFill>
          <a:blip r:embed="rId2"/>
          <a:stretch/>
        </p:blipFill>
        <p:spPr>
          <a:xfrm>
            <a:off x="5724360" y="836640"/>
            <a:ext cx="1584360" cy="113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Administrator\AppData\Local\Microsoft\Windows\Temporary Internet Files\Content.IE5\U6FDESM4\MC900431576[1].png"/>
          <p:cNvPicPr/>
          <p:nvPr/>
        </p:nvPicPr>
        <p:blipFill>
          <a:blip r:embed="rId3"/>
          <a:stretch/>
        </p:blipFill>
        <p:spPr>
          <a:xfrm>
            <a:off x="7451640" y="5084640"/>
            <a:ext cx="1528920" cy="153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Administrator\AppData\Local\Microsoft\Windows\Temporary Internet Files\Content.IE5\U6FDESM4\MC900431576[1].png"/>
          <p:cNvPicPr/>
          <p:nvPr/>
        </p:nvPicPr>
        <p:blipFill>
          <a:blip r:embed="rId4"/>
          <a:stretch/>
        </p:blipFill>
        <p:spPr>
          <a:xfrm>
            <a:off x="5292720" y="5013360"/>
            <a:ext cx="1527120" cy="1538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Administrator\AppData\Local\Microsoft\Windows\Temporary Internet Files\Content.IE5\U6FDESM4\MC900431576[1].png"/>
          <p:cNvPicPr/>
          <p:nvPr/>
        </p:nvPicPr>
        <p:blipFill>
          <a:blip r:embed="rId5"/>
          <a:stretch/>
        </p:blipFill>
        <p:spPr>
          <a:xfrm>
            <a:off x="3203640" y="4941720"/>
            <a:ext cx="1528560" cy="15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Administrator\AppData\Local\Microsoft\Windows\Temporary Internet Files\Content.IE5\KPFVNEAZ\MC900282474[1].wmf"/>
          <p:cNvPicPr/>
          <p:nvPr/>
        </p:nvPicPr>
        <p:blipFill>
          <a:blip r:embed="rId6"/>
          <a:stretch/>
        </p:blipFill>
        <p:spPr>
          <a:xfrm>
            <a:off x="611280" y="4581360"/>
            <a:ext cx="1827000" cy="1522440"/>
          </a:xfrm>
          <a:prstGeom prst="rect">
            <a:avLst/>
          </a:prstGeom>
          <a:ln w="0">
            <a:noFill/>
          </a:ln>
        </p:spPr>
      </p:pic>
      <p:cxnSp>
        <p:nvCxnSpPr>
          <p:cNvPr id="107" name="Straight Arrow Connector 13"/>
          <p:cNvCxnSpPr/>
          <p:nvPr/>
        </p:nvCxnSpPr>
        <p:spPr>
          <a:xfrm>
            <a:off x="1907640" y="1557000"/>
            <a:ext cx="403308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pic>
        <p:nvPicPr>
          <p:cNvPr id="108" name="Picture 9" descr="C:\Users\Administrator\AppData\Local\Microsoft\Windows\Temporary Internet Files\Content.IE5\MKL3RYBI\MC900434845[1].png"/>
          <p:cNvPicPr/>
          <p:nvPr/>
        </p:nvPicPr>
        <p:blipFill>
          <a:blip r:embed="rId7"/>
          <a:stretch/>
        </p:blipFill>
        <p:spPr>
          <a:xfrm>
            <a:off x="3780000" y="2565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Administrator\AppData\Local\Microsoft\Windows\Temporary Internet Files\Content.IE5\MKL3RYBI\MC900434845[1].png"/>
          <p:cNvPicPr/>
          <p:nvPr/>
        </p:nvPicPr>
        <p:blipFill>
          <a:blip r:embed="rId8"/>
          <a:stretch/>
        </p:blipFill>
        <p:spPr>
          <a:xfrm>
            <a:off x="6300720" y="2421000"/>
            <a:ext cx="1714680" cy="171432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17"/>
          <p:cNvCxnSpPr/>
          <p:nvPr/>
        </p:nvCxnSpPr>
        <p:spPr>
          <a:xfrm>
            <a:off x="5076360" y="3284280"/>
            <a:ext cx="136764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1" name="Straight Arrow Connector 19"/>
          <p:cNvCxnSpPr/>
          <p:nvPr/>
        </p:nvCxnSpPr>
        <p:spPr>
          <a:xfrm flipH="1" flipV="1">
            <a:off x="6659280" y="1628280"/>
            <a:ext cx="434160" cy="1153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2" name="Straight Arrow Connector 21"/>
          <p:cNvCxnSpPr/>
          <p:nvPr/>
        </p:nvCxnSpPr>
        <p:spPr>
          <a:xfrm flipH="1">
            <a:off x="2267640" y="3860640"/>
            <a:ext cx="1799640" cy="1224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3" name="Straight Arrow Connector 23"/>
          <p:cNvCxnSpPr/>
          <p:nvPr/>
        </p:nvCxnSpPr>
        <p:spPr>
          <a:xfrm flipH="1">
            <a:off x="4426920" y="4005360"/>
            <a:ext cx="73800" cy="122472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4" name="Straight Arrow Connector 25"/>
          <p:cNvCxnSpPr/>
          <p:nvPr/>
        </p:nvCxnSpPr>
        <p:spPr>
          <a:xfrm>
            <a:off x="4787640" y="3933720"/>
            <a:ext cx="1369080" cy="1440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15" name="Straight Arrow Connector 27"/>
          <p:cNvCxnSpPr/>
          <p:nvPr/>
        </p:nvCxnSpPr>
        <p:spPr>
          <a:xfrm>
            <a:off x="5003280" y="3789360"/>
            <a:ext cx="3025080" cy="1728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headEnd len="med" type="arrow" w="med"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verage Energy  Proportion of Total</a:t>
            </a:r>
            <a:r>
              <a:rPr b="0" lang="en-AU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nnual CO2 Emission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Common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60 Watts (Router + Server + Switch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6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Desktop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52 Watts (2x Thin Clients + monitors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41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Printing Equipmen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6 Watts (1x prin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13%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365040" y="-176040"/>
            <a:ext cx="8663040" cy="200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Replacing large electric heating appliances such as ovens and dryers with equivalent gas applian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Controlling deferrable loads to periods of least cos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Reducing lighting in ‘over-lit’ area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Automating lighting, air handling and other services to turn-off at pre-defined period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Night-time ventilation of buildings to utilise cooler temperatures to cool building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Centralise or de-centralise air conditioning and/or hot water services to minimise overall heat gain or los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0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Toindepi\Downloads\payback3.jpg"/>
          <p:cNvPicPr/>
          <p:nvPr/>
        </p:nvPicPr>
        <p:blipFill>
          <a:blip r:embed="rId2"/>
          <a:stretch/>
        </p:blipFill>
        <p:spPr>
          <a:xfrm>
            <a:off x="68436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9:39:10Z</dcterms:created>
  <dc:creator>Toindepi</dc:creator>
  <dc:description/>
  <dc:language>en-US</dc:language>
  <cp:lastModifiedBy>Toindepi</cp:lastModifiedBy>
  <dcterms:modified xsi:type="dcterms:W3CDTF">2012-10-07T12:47:29Z</dcterms:modified>
  <cp:revision>14</cp:revision>
  <dc:subject/>
  <dc:title>The Basics of preparing to integrate sustainability into ICT planning and design projects;</dc:title>
</cp:coreProperties>
</file>